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0500-D7EC-472B-A686-1CC48531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F78E-7995-46AA-A8F1-956759F9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CD92-ED8A-4938-A2FE-27709595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3215-3145-46BB-A33E-A9141796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0D337-8602-41EC-A80F-62445A0A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265B-C1F9-435F-A4DF-41652C15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57F0-6771-4C85-8348-014BAE0A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7DE3A-421A-4A44-B9B2-6BA81309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F1DA-E2FF-44AA-A3BE-A138E862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B88A-B672-4EFC-B3B2-73BF370B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FEF3-D4D8-4579-8FCE-27E893A5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3B05-F48F-4325-A3B8-B884D7BF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7F07-0EA6-4098-B831-EFDA3EB4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6A81-F3B5-4D56-B4DF-35D1C20B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711C-92BC-43B5-9275-17BB72B2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1EE4-AB1B-472B-932D-A34FD343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9FB7-E5DA-4C64-950C-B93C4496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1CA5-D150-43F9-A92F-C836504A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8A40-5F3A-478D-915D-6691A54B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6B22-B47D-439C-86BB-98DF176A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8CB2-59C7-49D7-AD2C-246E59E9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6A7C-5867-407C-BFD4-2939FAD0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2A14-83E7-48B3-B9ED-EADB2661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E28A-3393-42F6-BE46-E0A0DFD9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49D7-10C4-46D3-9F7E-A50C6672C66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C806-50BD-4C07-BFD0-559974BB05B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utura Md BT"/>
              </a:rPr>
              <a:t>Click to edit the title text format</a:t>
            </a: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3313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7960"/>
                </a:solidFill>
                <a:latin typeface="Trebuchet MS"/>
                <a:ea typeface="Arial"/>
              </a:rPr>
              <a:t>Predavanja :</a:t>
            </a:r>
            <a:endParaRPr b="1" lang="en-US" sz="36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154944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Osnove račun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233856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Upravljački susta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3127320"/>
            <a:ext cx="5104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Obrada teks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393228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29T20:07:59Z</dcterms:modified>
  <cp:revision>6</cp:revision>
  <dc:subject/>
  <dc:title>Predavanja :</dc:title>
</cp:coreProperties>
</file>