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ED3A-DDBE-4030-BCE2-311339470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560" y="363240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9FE0-DE9D-48BC-BD08-E1122351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2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CBE5-6E59-449B-AC9F-FE3B1DF63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320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984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56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320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984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0F8B-0C65-46FA-AC33-9BA2EC40D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8958-B963-4ECB-AF48-281C0C26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FB66-6B2A-47B4-A9A2-8BA1FE2E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3797-01CE-4EEC-8BEB-B0AC511D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C0C0-D612-4713-819A-983F7A0E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68A4-A4EC-4D8B-90CE-F9222D54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AAAB-1639-483F-879E-2E012B8C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2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F803-975C-41B2-A679-86C4854D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C03E-B89B-4766-93FB-6A64D32F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Click to edit the outline text format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econd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Third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Four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Fif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ix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even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A9FC-D0E3-48B2-959D-4A9E2FF222FC}" type="datetime">
              <a:rPr b="0" lang="hr-HR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3F65-DF65-4660-9D43-94BF6C4E1643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6280" y="2170080"/>
            <a:ext cx="5816520" cy="148896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990033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5400" spc="-1" strike="noStrike">
                <a:solidFill>
                  <a:srgbClr val="ffff00"/>
                </a:solidFill>
                <a:latin typeface="Trebuchet MS"/>
              </a:rPr>
              <a:t>E – pošt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0-12-31T22:00:00Z</dcterms:created>
  <dc:creator/>
  <dc:description/>
  <dc:language>en-US</dc:language>
  <cp:lastModifiedBy/>
  <dcterms:modified xsi:type="dcterms:W3CDTF">2004-07-08T20:10:19Z</dcterms:modified>
  <cp:revision>3</cp:revision>
  <dc:subject/>
  <dc:title>Slide 1</dc:title>
</cp:coreProperties>
</file>