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FF19-DB99-4238-8FD6-8BF70850D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560" y="363240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77C6-5EFA-4BAE-A67F-10606CBB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2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C9C8-71C7-4CA5-924D-9557E0573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320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984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56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320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984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D5A1-7613-4CD3-A659-8C6A7F9E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81B5-A478-480D-B22B-F5194D5F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6C6A-ADD0-49C8-9655-CA808020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8126-1916-4B98-8EF6-5C950588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8DE4-B0A9-41C9-97C0-F3597788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A1D4-C25B-45C1-BFA0-A7D37A29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18EA-59F8-4B31-975B-2DCA2FDA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2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81A2-E810-4BD1-98FB-73A97372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F78B-76DD-4537-B7A2-FF038573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Click to edit the outline text format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econd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Third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Four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Fif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ix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even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2A48-E188-4D5B-8B41-00EC6D5BC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133720"/>
            <a:ext cx="7088040" cy="158256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990033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00"/>
                </a:solidFill>
                <a:latin typeface="Trebuchet MS"/>
              </a:rPr>
              <a:t>Dobro došli 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2:00:00Z</dcterms:created>
  <dc:creator/>
  <dc:description/>
  <dc:language>en-US</dc:language>
  <cp:lastModifiedBy/>
  <dcterms:modified xsi:type="dcterms:W3CDTF">2004-07-07T20:12:03Z</dcterms:modified>
  <cp:revision>3</cp:revision>
  <dc:subject/>
  <dc:title>Dobro došli !</dc:title>
</cp:coreProperties>
</file>