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565-C317-4E5C-A3C0-752135B3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03D-0B9B-4310-8225-F6617637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198-A80E-4759-B193-D115A5CA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95F-6544-409D-9D42-B95A1F13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BDF-004A-4EDA-BE1E-15DB7B49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1CE-60AA-4F4C-8EBF-F44A30A1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08A-B741-4645-8050-FD4C0D12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775-7501-4238-B243-D83F4492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DEB-277A-4469-A37C-85FE313B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8C4-4E68-4BBB-9E4F-8447EAA2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C99-9236-41EC-B662-2B025E68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BE9-5B38-435A-85A7-FFC5D232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4119-1950-458A-869E-FB798B92A29C}" type="datetime">
              <a:rPr b="0" lang="hr-H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CE66-7A24-4B82-999A-DF68A8003220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6280" y="2170080"/>
            <a:ext cx="5816520" cy="148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ffff00"/>
                </a:solidFill>
                <a:latin typeface="Trebuchet MS"/>
              </a:rPr>
              <a:t>E – poš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8T20:10:19Z</dcterms:modified>
  <cp:revision>3</cp:revision>
  <dc:subject/>
  <dc:title>Slide 1</dc:title>
</cp:coreProperties>
</file>